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D53C1C4-16F4-4A4C-8F15-24221AA447CC}"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BBD7A1B-8EAB-4EC9-A9F8-B113E3AFBF55}"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EF376-2F22-424B-913B-2B25F5888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EFC25-E642-4C46-AE0D-9FE7898D1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D5006-25FD-46A2-8558-51DA8358D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4B0F2-EF4D-4F72-87B1-88C331980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E0071-6609-4277-8C7E-2110E7DC2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ECCCA-A1DB-4682-B839-42FDEB0C2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396C2-6D62-4728-B393-D5B2ACA1D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96D19-0E6E-4BA5-A937-9767B0822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A9AEF-C611-4463-93EB-339DF5323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74BD6-2D0B-4BB5-8FEB-D36EFE101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D5622-A0D3-4598-A8E4-9AC6F8C68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6B814-549D-4E23-A948-E00F4B6E6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ABDF-54BA-4CB6-A86B-365DA90DE299}"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090960" y="47628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E97AE-EE55-4A3F-ADC1-5BCB64AA18F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8F71-2339-405D-BE20-9D1F9507833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27D6-F3E8-40E2-8CDE-E6FF9B61FCB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E3E8-32E5-492B-9500-C7C38772561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48DE-AEC1-4318-BE4E-601FA4D8481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6E08-9738-4D70-A64D-9044E8B2CC2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BA2E-0196-4D0B-8406-8A56ADAEEF0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286DD-256D-4C46-B70A-3D2024C9218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79F7-7BF4-4E7F-AC2D-F686DA39FA5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F395-8A5F-478D-862C-424978F3BE0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756EB-8074-4368-ABB5-2C65FB40D02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33C5-E48F-4F6F-981A-802C230FAC4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68AF-E172-4C6D-8B1B-BBA9FD74009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7475-AA8C-43C8-A7CD-A1F783C0090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3567D-FC8C-4B4A-828A-CCA118A3075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48C6-6CC9-40A8-B234-52766D14646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61DC-B2F1-4E37-8939-140921072B4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A7BA-0088-4840-B160-7FB3155342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3D74-4B00-40D5-A25C-4EEA633995D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A5AB-D3F1-44ED-849D-799BAA1F27F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E2A46-CF38-4C7E-BD4D-4FBDB03DC3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8EA04-261B-4161-9F27-74904F68A40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36DE-61F8-414F-A256-CD1063B672C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6A41-85C5-4840-A226-FB1C7A31A7E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51A22-2DD1-4168-82C5-1743D5BB19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D73D-169F-481D-BA55-2FC83048642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2BC5-FDC2-4BF4-910E-DA6517FA23B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6350-ED7B-472A-BB9D-18A4B1EC6CA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10E2-BF1B-412F-BFB3-CF97ED51440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94E7-23CC-4CA9-A0C7-ED187D497DA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2EDD-DAC4-47DC-915A-78F88AA3F84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F8D0-1D3C-433A-AC1B-4C785A1013B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B783-93FA-4A20-B270-08553EC126C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2B734-3E0D-4D97-970E-F036500DDB8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50DC-759C-4E8D-B47F-1449AA2A333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7AAF-481D-4F4A-A73E-68F90CB076D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1841-DB98-4170-8DD6-C33C050532D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71753-0EBD-4977-961F-520208AD930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3422-815E-44B6-A5FA-BB72A263198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55FF-84A8-4E8E-813D-C79C7E04900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96270-C3EF-4A46-BF4C-16C0DFE3D7B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9:34Z</dcterms:modified>
  <cp:revision>74</cp:revision>
  <dc:subject/>
  <dc:title>Aims and Objectives</dc:title>
</cp:coreProperties>
</file>